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5D0-ACE9-4069-B7DC-E3DD45CE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FC1-3EAA-4D68-9DD8-9CEDEA1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B0F-830D-4416-9311-83EC67B9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D08-3073-439D-B035-E04745BF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DFE-EBAC-40DB-8AD9-3B0938E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E52-89BE-4C95-99C9-7814DBD7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8C8-7233-4CF0-98D0-D2CC7BF8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349-AC0E-4556-874B-D21EC48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251-CB2B-42E8-A5CC-3382327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44E-0EF6-460C-8467-40B0E7C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DE7-E71E-4B08-B578-B86F5F5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2DD-DC07-4AB5-81C8-35900BC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8CD0-1640-4DC5-AD6B-9165D525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asure 50mL of water and pour in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cord starting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asure 1g of Sodium Chloride and add to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cord the temperature after 1 min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alculate the chang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peat steps 1-5 using 2g, 3g, 4g, and 5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50mL of water and pour in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tarting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.2g of Calcium Chloride and add to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he temperature after 1 min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hang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steps 1-5 using .4g, .6g, .8g, and 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92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92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92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92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92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92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92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92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192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192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192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92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192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192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192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92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92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192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192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92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192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192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192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NaC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ount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rt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ange in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834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Temp. (C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21:29Z</dcterms:created>
  <dc:creator>default</dc:creator>
  <dc:description/>
  <dc:language>en-US</dc:language>
  <cp:lastModifiedBy>default</cp:lastModifiedBy>
  <dcterms:modified xsi:type="dcterms:W3CDTF">2008-03-07T17:45:57Z</dcterms:modified>
  <cp:revision>2</cp:revision>
  <dc:subject/>
  <dc:title>Slide 1</dc:title>
</cp:coreProperties>
</file>